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B62-4B28-40C5-9FE8-5DC851EE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F01-E946-4DA1-8B0E-53F25E61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901-8E62-4E71-A3DA-13C7AFCE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E2F-B0EB-4053-882D-403E2A1F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0702-0D5E-4959-AB2D-DD9E4ABA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EFEF-C9BE-4E74-B69B-2FCCC98B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3A6B-4A53-4180-BBCE-8FE7C068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CE93-D71B-4DE7-AC29-39021CF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CD99-846F-491E-8E45-05C69F51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25EA-4AE3-4B08-8E73-D0CA3A4F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EC4B-5961-4E95-B602-EE2F06E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B86-B9F1-4F97-B905-A238D42B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8260-323D-4506-B25B-B14AEA14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DC52-9554-41A9-AB78-18B9C4F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4E53-E6C4-4523-87A1-05EDAA1B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5649-5CB4-4693-95DE-BDB016AC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3BC9-7292-4DA9-A2A2-DAD00250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04C-083E-4AD9-AFB3-D81A3B27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3A8-DA8B-4299-993B-54B08BEB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6B4-9AED-43F4-841E-F41B5589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A40-27CE-4134-BB4A-786D0F32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2D6-D418-4FCD-B134-71A3A01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244-10A5-40D6-A5BD-FBBBF69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733-D303-4017-A3F2-96E609D0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8F4F-BDC8-451A-90F5-9F2871CB571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A8AC-DA67-4432-ADDD-2F3AE59E14FC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3712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teractive Whiteboard Maintenanc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e a dry-eraser marker and trace over the mark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ile the ink is still wet, wipe with a soft cloth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solvents in dry-erase ink remove permanent ink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2514600"/>
            <a:ext cx="3581640" cy="31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200400"/>
            <a:ext cx="533160" cy="533520"/>
          </a:xfrm>
          <a:prstGeom prst="line">
            <a:avLst/>
          </a:prstGeom>
          <a:ln w="7632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3920" y="3106800"/>
            <a:ext cx="711360" cy="652320"/>
          </a:xfrm>
          <a:custGeom>
            <a:avLst/>
            <a:gdLst/>
            <a:ahLst/>
            <a:rect l="l" t="t" r="r" b="b"/>
            <a:pathLst>
              <a:path w="448" h="411">
                <a:moveTo>
                  <a:pt x="52" y="64"/>
                </a:moveTo>
                <a:cubicBezTo>
                  <a:pt x="67" y="124"/>
                  <a:pt x="61" y="114"/>
                  <a:pt x="107" y="155"/>
                </a:cubicBezTo>
                <a:cubicBezTo>
                  <a:pt x="123" y="169"/>
                  <a:pt x="153" y="201"/>
                  <a:pt x="153" y="201"/>
                </a:cubicBezTo>
                <a:cubicBezTo>
                  <a:pt x="167" y="259"/>
                  <a:pt x="208" y="292"/>
                  <a:pt x="263" y="310"/>
                </a:cubicBezTo>
                <a:cubicBezTo>
                  <a:pt x="269" y="316"/>
                  <a:pt x="274" y="324"/>
                  <a:pt x="281" y="329"/>
                </a:cubicBezTo>
                <a:cubicBezTo>
                  <a:pt x="289" y="334"/>
                  <a:pt x="302" y="330"/>
                  <a:pt x="308" y="338"/>
                </a:cubicBezTo>
                <a:cubicBezTo>
                  <a:pt x="319" y="354"/>
                  <a:pt x="321" y="375"/>
                  <a:pt x="327" y="393"/>
                </a:cubicBezTo>
                <a:cubicBezTo>
                  <a:pt x="330" y="402"/>
                  <a:pt x="325" y="370"/>
                  <a:pt x="317" y="365"/>
                </a:cubicBezTo>
                <a:cubicBezTo>
                  <a:pt x="308" y="359"/>
                  <a:pt x="299" y="353"/>
                  <a:pt x="290" y="347"/>
                </a:cubicBezTo>
                <a:cubicBezTo>
                  <a:pt x="270" y="318"/>
                  <a:pt x="255" y="303"/>
                  <a:pt x="226" y="283"/>
                </a:cubicBezTo>
                <a:cubicBezTo>
                  <a:pt x="220" y="274"/>
                  <a:pt x="215" y="264"/>
                  <a:pt x="208" y="256"/>
                </a:cubicBezTo>
                <a:cubicBezTo>
                  <a:pt x="202" y="249"/>
                  <a:pt x="194" y="244"/>
                  <a:pt x="189" y="237"/>
                </a:cubicBezTo>
                <a:cubicBezTo>
                  <a:pt x="163" y="202"/>
                  <a:pt x="147" y="167"/>
                  <a:pt x="116" y="137"/>
                </a:cubicBezTo>
                <a:cubicBezTo>
                  <a:pt x="101" y="89"/>
                  <a:pt x="111" y="114"/>
                  <a:pt x="71" y="54"/>
                </a:cubicBezTo>
                <a:cubicBezTo>
                  <a:pt x="65" y="45"/>
                  <a:pt x="58" y="36"/>
                  <a:pt x="52" y="27"/>
                </a:cubicBezTo>
                <a:cubicBezTo>
                  <a:pt x="46" y="18"/>
                  <a:pt x="34" y="0"/>
                  <a:pt x="34" y="0"/>
                </a:cubicBezTo>
                <a:cubicBezTo>
                  <a:pt x="44" y="83"/>
                  <a:pt x="66" y="154"/>
                  <a:pt x="153" y="182"/>
                </a:cubicBezTo>
                <a:cubicBezTo>
                  <a:pt x="175" y="205"/>
                  <a:pt x="199" y="210"/>
                  <a:pt x="226" y="228"/>
                </a:cubicBezTo>
                <a:cubicBezTo>
                  <a:pt x="237" y="245"/>
                  <a:pt x="253" y="257"/>
                  <a:pt x="263" y="274"/>
                </a:cubicBezTo>
                <a:cubicBezTo>
                  <a:pt x="268" y="282"/>
                  <a:pt x="265" y="294"/>
                  <a:pt x="272" y="301"/>
                </a:cubicBezTo>
                <a:cubicBezTo>
                  <a:pt x="279" y="308"/>
                  <a:pt x="290" y="307"/>
                  <a:pt x="299" y="310"/>
                </a:cubicBezTo>
                <a:cubicBezTo>
                  <a:pt x="311" y="319"/>
                  <a:pt x="321" y="334"/>
                  <a:pt x="336" y="338"/>
                </a:cubicBezTo>
                <a:cubicBezTo>
                  <a:pt x="356" y="344"/>
                  <a:pt x="395" y="301"/>
                  <a:pt x="409" y="292"/>
                </a:cubicBezTo>
                <a:cubicBezTo>
                  <a:pt x="421" y="295"/>
                  <a:pt x="441" y="289"/>
                  <a:pt x="445" y="301"/>
                </a:cubicBezTo>
                <a:cubicBezTo>
                  <a:pt x="448" y="311"/>
                  <a:pt x="429" y="318"/>
                  <a:pt x="418" y="320"/>
                </a:cubicBezTo>
                <a:cubicBezTo>
                  <a:pt x="409" y="322"/>
                  <a:pt x="400" y="313"/>
                  <a:pt x="391" y="310"/>
                </a:cubicBezTo>
                <a:cubicBezTo>
                  <a:pt x="347" y="326"/>
                  <a:pt x="348" y="313"/>
                  <a:pt x="317" y="283"/>
                </a:cubicBezTo>
                <a:cubicBezTo>
                  <a:pt x="299" y="229"/>
                  <a:pt x="243" y="189"/>
                  <a:pt x="199" y="155"/>
                </a:cubicBezTo>
                <a:cubicBezTo>
                  <a:pt x="185" y="144"/>
                  <a:pt x="178" y="126"/>
                  <a:pt x="162" y="118"/>
                </a:cubicBezTo>
                <a:cubicBezTo>
                  <a:pt x="151" y="112"/>
                  <a:pt x="137" y="112"/>
                  <a:pt x="125" y="109"/>
                </a:cubicBezTo>
                <a:cubicBezTo>
                  <a:pt x="113" y="100"/>
                  <a:pt x="102" y="89"/>
                  <a:pt x="89" y="82"/>
                </a:cubicBezTo>
                <a:cubicBezTo>
                  <a:pt x="80" y="77"/>
                  <a:pt x="69" y="79"/>
                  <a:pt x="61" y="73"/>
                </a:cubicBezTo>
                <a:cubicBezTo>
                  <a:pt x="44" y="60"/>
                  <a:pt x="16" y="27"/>
                  <a:pt x="16" y="27"/>
                </a:cubicBezTo>
                <a:cubicBezTo>
                  <a:pt x="0" y="76"/>
                  <a:pt x="11" y="125"/>
                  <a:pt x="25" y="173"/>
                </a:cubicBezTo>
                <a:cubicBezTo>
                  <a:pt x="28" y="182"/>
                  <a:pt x="26" y="196"/>
                  <a:pt x="34" y="201"/>
                </a:cubicBezTo>
                <a:cubicBezTo>
                  <a:pt x="50" y="210"/>
                  <a:pt x="71" y="207"/>
                  <a:pt x="89" y="210"/>
                </a:cubicBezTo>
                <a:cubicBezTo>
                  <a:pt x="101" y="204"/>
                  <a:pt x="112" y="192"/>
                  <a:pt x="125" y="192"/>
                </a:cubicBezTo>
                <a:cubicBezTo>
                  <a:pt x="134" y="192"/>
                  <a:pt x="140" y="202"/>
                  <a:pt x="144" y="210"/>
                </a:cubicBezTo>
                <a:cubicBezTo>
                  <a:pt x="153" y="227"/>
                  <a:pt x="151" y="249"/>
                  <a:pt x="162" y="265"/>
                </a:cubicBezTo>
                <a:cubicBezTo>
                  <a:pt x="168" y="274"/>
                  <a:pt x="174" y="283"/>
                  <a:pt x="180" y="292"/>
                </a:cubicBezTo>
                <a:cubicBezTo>
                  <a:pt x="196" y="341"/>
                  <a:pt x="178" y="301"/>
                  <a:pt x="217" y="347"/>
                </a:cubicBezTo>
                <a:cubicBezTo>
                  <a:pt x="265" y="403"/>
                  <a:pt x="255" y="398"/>
                  <a:pt x="336" y="411"/>
                </a:cubicBezTo>
                <a:cubicBezTo>
                  <a:pt x="347" y="379"/>
                  <a:pt x="352" y="385"/>
                  <a:pt x="327" y="356"/>
                </a:cubicBezTo>
                <a:cubicBezTo>
                  <a:pt x="317" y="344"/>
                  <a:pt x="270" y="299"/>
                  <a:pt x="253" y="283"/>
                </a:cubicBezTo>
                <a:cubicBezTo>
                  <a:pt x="216" y="247"/>
                  <a:pt x="205" y="201"/>
                  <a:pt x="153" y="182"/>
                </a:cubicBezTo>
                <a:cubicBezTo>
                  <a:pt x="136" y="160"/>
                  <a:pt x="120" y="136"/>
                  <a:pt x="98" y="118"/>
                </a:cubicBezTo>
                <a:cubicBezTo>
                  <a:pt x="90" y="111"/>
                  <a:pt x="82" y="100"/>
                  <a:pt x="71" y="100"/>
                </a:cubicBezTo>
                <a:cubicBezTo>
                  <a:pt x="63" y="100"/>
                  <a:pt x="83" y="112"/>
                  <a:pt x="89" y="11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f there are any traces of permanent ink left, spray the area with glass or whiteboard cleaner and wipe clea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en removing permanent marker ink, avoid using low-odor or non-scented dry eraser markers because they do not contain the appropriate solvent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514600"/>
            <a:ext cx="3581640" cy="31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200400"/>
            <a:ext cx="152280" cy="152280"/>
          </a:xfrm>
          <a:prstGeom prst="line">
            <a:avLst/>
          </a:prstGeom>
          <a:ln w="7632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200400"/>
            <a:ext cx="228600" cy="53352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048120"/>
            <a:ext cx="76320" cy="15228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638320" y="3124080"/>
            <a:ext cx="1143000" cy="76320"/>
          </a:xfrm>
          <a:prstGeom prst="line">
            <a:avLst/>
          </a:prstGeom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90960" y="3124080"/>
            <a:ext cx="990360" cy="228600"/>
          </a:xfrm>
          <a:prstGeom prst="line">
            <a:avLst/>
          </a:prstGeom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19920" y="3124080"/>
            <a:ext cx="761760" cy="457200"/>
          </a:xfrm>
          <a:prstGeom prst="line">
            <a:avLst/>
          </a:prstGeom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505320"/>
            <a:ext cx="152640" cy="152280"/>
          </a:xfrm>
          <a:prstGeom prst="line">
            <a:avLst/>
          </a:prstGeom>
          <a:ln w="7632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that you have been shown the procedure, it is your turn to try i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erform each step slowl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nk it through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t’s time to try it on your own.  You will pair up with a partner and for the next 30 minutes practice showing others how to do interactive whiteboard maintenance so they can do it independentl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n the 30 minutes are up, we will come back together and discuss what you learned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1 – Students … decide which partner will be the iSquader and the Student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2 - The iSquader will ask the Student what they know about doing interactive whiteboard maintenance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3 - The iSquader will explain to the Student the purpose of each of the procedures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4 - The iSquader will walk the Student through each step of interactive whiteboard maintenance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5 - When the activity is completed, the iSquader will have the Student review the steps of interactive whiteboard maintenance again.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64"/>
                </a:solidFill>
                <a:latin typeface="Arial"/>
              </a:rPr>
              <a:t>Step 6 - Reverse Roles </a:t>
            </a:r>
            <a:endParaRPr b="0" lang="en-US" sz="2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let’s do a follow up to what we have learned today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irt affects an interactive whiteboar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…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roper interactive whiteboard maintena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removing marks from permanent mark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…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ssisting others on how to maintain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nteractive whiteboard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et’s Review …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y is it important to keep your interactive whiteboard clean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you maintain an interactive whiteboard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you remove marks from permanent markers on an interactive whiteboard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es dry-eraser markers help clean the surface of an interactive whiteboard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assist others to independently maintain an interactive whiteboard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y is it important to keep your interactive whiteboard clean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rt is the biggest enemy of an interactive whiteboard.  Sensors will see the dirt and assume that the pen or eraser is in the holder and will not operate properl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y is it important to keep your interactive whiteboard clean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o you maintain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o you remove marks from permanent markers on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oes dry-eraser markers help clean the surface of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can we assist others to independently maintain an interactive whiteboar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98360"/>
            <a:ext cx="899172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How do you maintain an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interactive whiteboard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re are two places that should be cleaned on an interactive whiteboard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Pen and eraser holders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Board surfac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clean the pen and eraser trays dampen a cotton swab and clean the sensor and get all corners inside the tray.  Use a soft cloth to dry the tray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clean the board surface spray window cleaner on a paper towel and wipe down the board surfac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should be done on a weekly basi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3372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50640"/>
            <a:ext cx="7696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ow do you remove marks from permanent markers on</a:t>
            </a:r>
            <a:br>
              <a:rPr sz="3200"/>
            </a:b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an interactive whiteboard?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Use a dry-eraser marker and trace over the mar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le the ink is still wet, wipe with a soft cloth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f there are any traces of permanent ink left, spray the area with glass or whiteboard cleaner and wipe clea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001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ow does dry-eraser markers</a:t>
            </a:r>
            <a:br>
              <a:rPr sz="3200"/>
            </a:b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elp clean the surface of an</a:t>
            </a:r>
            <a:br>
              <a:rPr sz="3200"/>
            </a:b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interactive whiteboard?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solvents in dry-erase ink remove permanent in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removing permanent marker ink, avoid using low-odor or non-scented dry eraser markers because they do not contain the appropriate solven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05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ow can we assist others to independently maintain</a:t>
            </a:r>
            <a:br>
              <a:rPr sz="3200"/>
            </a:b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an interactive whiteboard?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Share what worked for you and your partner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ne of the common complaints that students and teachers have about their school’s technology, many times it does not work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ue to heavy usage everyday, equipment will begin to breakdown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day, we going to learn how to maintain an interactive whiteboard and share that information with other student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efore you clean an interactive whiteboard … shut down the computer and the projector.  This should be done for two reasons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leansers and live sensors do not mix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You will see dirt and streaks much easier with the unit powered off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get started …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re are two places that should be cleaned on an interactive whiteboard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en and eraser hold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oard surfa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rt is the biggest enemy of an interactive whiteboar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nsors will see the dirt and assume that the pen or eraser is in the holder and will not operate properl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 clean the pen and eraser trays dampen a cotton swab and clean the sensor and get all corners inside the tray.  Use a soft cloth to dry the tray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4280" y="2133720"/>
            <a:ext cx="4038840" cy="3797280"/>
            <a:chOff x="4724280" y="2133720"/>
            <a:chExt cx="4038840" cy="37972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398160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H="1">
              <a:off x="5029200" y="4419720"/>
              <a:ext cx="990720" cy="3045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813200" y="2133720"/>
              <a:ext cx="3949920" cy="932040"/>
              <a:chOff x="4813200" y="2133720"/>
              <a:chExt cx="3949920" cy="932040"/>
            </a:xfrm>
          </p:grpSpPr>
          <p:pic>
            <p:nvPicPr>
              <p:cNvPr id="1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3200" y="2133720"/>
                <a:ext cx="3949920" cy="9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flipH="1">
                <a:off x="4876920" y="2514600"/>
                <a:ext cx="457200" cy="763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4876920" y="2286000"/>
                <a:ext cx="4572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00800" y="2286000"/>
                <a:ext cx="4572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00800" y="2514600"/>
                <a:ext cx="533520" cy="763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867280" y="2286000"/>
                <a:ext cx="0" cy="5335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81480" y="2819520"/>
                <a:ext cx="144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0000"/>
                    </a:solidFill>
                    <a:latin typeface="Arial"/>
                  </a:rPr>
                  <a:t>SENSOR</a:t>
                </a:r>
                <a:endParaRPr b="0" lang="en-US" sz="1000" spc="-1" strike="noStrike">
                  <a:solidFill>
                    <a:srgbClr val="212164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 flipV="1">
              <a:off x="5105520" y="3886200"/>
              <a:ext cx="761760" cy="763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543800" y="3886200"/>
              <a:ext cx="914400" cy="763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7480" y="4495680"/>
              <a:ext cx="990720" cy="2286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4114800"/>
              <a:ext cx="0" cy="6094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9920" y="3870360"/>
              <a:ext cx="144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SENSOR</a:t>
              </a:r>
              <a:endParaRPr b="0" lang="en-US" sz="10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 clean the board surface spray window cleaner on a paper towel and wipe down the board surfac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is should be done on a weekly basi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2768760"/>
            <a:ext cx="3936960" cy="1879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34320" y="2819520"/>
            <a:ext cx="182880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Board Surfac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895480"/>
            <a:ext cx="2133720" cy="152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f there are any  marks on the interactive white caused by a permanent marker, do the following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2514600"/>
            <a:ext cx="3581640" cy="31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200400"/>
            <a:ext cx="533160" cy="533520"/>
          </a:xfrm>
          <a:prstGeom prst="line">
            <a:avLst/>
          </a:prstGeom>
          <a:ln w="7632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ward A. Fitzgerald Sr.</cp:lastModifiedBy>
  <dcterms:modified xsi:type="dcterms:W3CDTF">2007-03-12T11:21:39Z</dcterms:modified>
  <cp:revision>53</cp:revision>
  <dc:subject/>
  <dc:title>Workshop Title</dc:title>
</cp:coreProperties>
</file>